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91B8-439C-4384-A537-5FA189A4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7DC3-3BD0-4A45-A290-62EFCD8B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5664-A622-453C-BF3F-E81B6DF9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31BB-2FC3-4151-9AF2-D5E75FFC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FBC5-053F-4C58-8D33-B90AE726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F392-9F51-4245-B127-7355C3B1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0170-9006-4404-91DA-79099E29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BC06-C253-4B9E-830B-AFA30B29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9FEE-D360-4625-BA93-768404C6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A063-B9CE-4CD5-9E6E-BA4F68EB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A861-27DC-4F67-84BF-D631F9AD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C06B-5C4D-47B9-9EA8-FE9DB8B1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38AF-F98A-4474-9728-A55B5CA6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DFA3-13C2-4415-B4FF-6EEE5904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2CBC-DB07-48CC-911D-5978B0BD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13DB-3653-4DD4-BE7B-86C99EAD3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3EA6-0335-4841-8F32-DEBD1D3B6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EFEC-F884-48A9-ABCA-982F6E57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3DB1-316D-4ADD-BF74-183DF94E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D669-07D2-4FEC-A02A-0BF764E9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7A86-FDA8-4DEB-97D5-7BB7A420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CE94-6B6F-4AAC-BDC0-A1A622BE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E1B1-32AA-46DB-985E-992565B8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25FF-F422-4816-AAA2-843E6F07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B989-70A5-44DA-8D5C-9621D521E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B970-BC6E-4DA8-A897-3929D670A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66ff33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371600" y="380880"/>
            <a:ext cx="6400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herry &amp; Goof!!!!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 rot="5400000">
            <a:off x="5309640" y="3071520"/>
            <a:ext cx="6019920" cy="1095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HOTDOG productions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9" name="bite_me_toilet_300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876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3366"/>
                </a:solidFill>
                <a:uFillTx/>
                <a:latin typeface="Monotype Corsiv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ctr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Favorite Color: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Favorite Book: Double 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Favorite Author:  Jacqueline  Wil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Favorite Food: Choco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Favorite Animal: H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Hobbies: Horse riding, Cherry &amp; Goof sh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Favorite movie: Grown 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Age: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Hair Color: Blon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1194986264946147517cherry_jonathan_dietrich_01.svg.med" descr="Cherry Clip Art"/>
          <p:cNvPicPr/>
          <p:nvPr/>
        </p:nvPicPr>
        <p:blipFill>
          <a:blip r:embed="rId2"/>
          <a:stretch/>
        </p:blipFill>
        <p:spPr>
          <a:xfrm>
            <a:off x="1519200" y="1981080"/>
            <a:ext cx="3117960" cy="4114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505320" y="3808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Monotype Corsiva"/>
              </a:rPr>
              <a:t>Cher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33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GOOF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vorite Color: G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vorite Book: Famous F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vorite Author: Enid Blyt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vorite Food: Choco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vorite Animal: 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bbies: Jazz, Cherry &amp; Goo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vorite movie: Tita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e: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ir Color: Bl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smiley_psychotic_sticker-p217586278362347030qjcl_400" descr=""/>
          <p:cNvPicPr/>
          <p:nvPr/>
        </p:nvPicPr>
        <p:blipFill>
          <a:blip r:embed="rId1"/>
          <a:stretch/>
        </p:blipFill>
        <p:spPr>
          <a:xfrm>
            <a:off x="117324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9deafe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752480" y="228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Cherry’s favorite Anima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orses-gallop" descr="picture of white horses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52480" y="2286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fs favorite anima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dog_027" descr="Orkut Scraps - Dogs"/>
          <p:cNvPicPr/>
          <p:nvPr/>
        </p:nvPicPr>
        <p:blipFill>
          <a:blip r:embed="rId2"/>
          <a:stretch/>
        </p:blipFill>
        <p:spPr>
          <a:xfrm>
            <a:off x="1676520" y="990720"/>
            <a:ext cx="624816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200400" y="152280"/>
            <a:ext cx="10666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O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4191120" y="1523880"/>
            <a:ext cx="48006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If you liked what seen so far abou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Cherry &amp; Goof watch episodes on Friday at 6pm at www.cherry&amp;goof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28-Pug-Faced-Dog-Horse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3047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33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600200" y="0"/>
            <a:ext cx="69343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ATCH'YA LATE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45" name="horse-smiling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5029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03:44:51Z</dcterms:created>
  <dc:creator> Rob</dc:creator>
  <dc:description/>
  <dc:language>en-US</dc:language>
  <cp:lastModifiedBy> Rob</cp:lastModifiedBy>
  <dcterms:modified xsi:type="dcterms:W3CDTF">2011-04-04T03:31:21Z</dcterms:modified>
  <cp:revision>11</cp:revision>
  <dc:subject/>
  <dc:title>PowerPoint Presentation</dc:title>
</cp:coreProperties>
</file>